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443-D6B5-43FA-A339-653605613C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8DD-C336-476C-9931-46EC9E9358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31D-9FE0-469C-A58E-557C9CFA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9F9-FAA3-469C-A5B0-531E53D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4BD-333E-404F-B238-EFDE5970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789-DEB0-4503-9B9F-2348040A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E07-DC36-4D7D-B5D0-0EDAD41F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5B7-74D8-47A3-B291-F9081F10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6E7-E37F-48A2-B0F5-3892943C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9E3-C2AD-4927-8CE1-DE31019F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958-68E4-4566-96B0-8111250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8FF-96D9-43CE-A2D0-257846B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0D2-2130-4B72-84B3-FCBDED6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053-CA8D-4D15-ACE0-19C1890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7004-4FF5-429F-A126-4026C7C100E3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0003-CD9B-478D-AC6F-94B5E8BEDA17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9"/>
          <p:cNvSpPr/>
          <p:nvPr/>
        </p:nvSpPr>
        <p:spPr>
          <a:xfrm>
            <a:off x="7502400" y="-74520"/>
            <a:ext cx="228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10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7"/>
          <p:cNvSpPr/>
          <p:nvPr/>
        </p:nvSpPr>
        <p:spPr>
          <a:xfrm>
            <a:off x="539640" y="476280"/>
            <a:ext cx="748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y struktural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ą, gdy strony konfliktu odczuwają niesprawiedliwość z powodu nierównego układu sił lub wpływ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połeczeńs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18132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8"/>
          <p:cNvSpPr/>
          <p:nvPr/>
        </p:nvSpPr>
        <p:spPr>
          <a:xfrm>
            <a:off x="3564000" y="2708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równy rozkład si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ieszczenie przestrze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role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7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atywne skutki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9671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7"/>
          <p:cNvSpPr/>
          <p:nvPr/>
        </p:nvSpPr>
        <p:spPr>
          <a:xfrm>
            <a:off x="2725560" y="4005360"/>
            <a:ext cx="537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es, negatywne emocje, złe samopoczuc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naczanie zasobów na konflik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e funkcjonowanie grup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rona starych zasad i stereotyp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6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ytywne skutki konfliktów (rozwiązania konfliktu)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546360" cy="2376720"/>
          </a:xfrm>
          <a:prstGeom prst="rect">
            <a:avLst/>
          </a:prstGeom>
          <a:ln w="0">
            <a:noFill/>
          </a:ln>
        </p:spPr>
      </p:pic>
      <p:sp>
        <p:nvSpPr>
          <p:cNvPr id="173" name="pole tekstowe 7"/>
          <p:cNvSpPr/>
          <p:nvPr/>
        </p:nvSpPr>
        <p:spPr>
          <a:xfrm>
            <a:off x="701280" y="2565360"/>
            <a:ext cx="730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sprawied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motyw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owacyjność i rozwó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głębianie wiedzy zarówno na swój temat, jak i na temat partne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większenie spójności gru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niżenie napię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5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Obraz 10" descr="sowa_1-komunikowanie sie.png"/>
            <p:cNvPicPr/>
            <p:nvPr/>
          </p:nvPicPr>
          <p:blipFill>
            <a:blip r:embed="rId9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508720" y="4653000"/>
            <a:ext cx="2381040" cy="1971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ole tekstowe 6"/>
          <p:cNvSpPr/>
          <p:nvPr/>
        </p:nvSpPr>
        <p:spPr>
          <a:xfrm>
            <a:off x="324000" y="1268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dycyjny sposób rozwiązywania konfliktów wiąże się zwykle z próbą  przekonania jednej strony do argumentów i opinii innej strony (czasem za wszelką cenę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i sposób podejścia do rozwiązywania konfliktów wiąże się nierozłącz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wstawaniem schematu wygrany – przeg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schemacie jedna ze stron odnosi sukces, wygrywa konflikt, natomiast druga strona ponosi porażkę i przegrywa konfli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a prowadzi to do sytuacji, w której jedna strona jest zadowolona, natomiast druga pozostaje nieusatysfakcjonowana ze sposobu rozwiązania konfli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35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emat </a:t>
            </a:r>
            <a:r>
              <a:rPr b="1" lang="pl-PL" sz="25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wygrany – przegrany </a:t>
            </a: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taje, gdy rozwiązujemy konflikt następującymi metodam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upa 16"/>
          <p:cNvGrpSpPr/>
          <p:nvPr/>
        </p:nvGrpSpPr>
        <p:grpSpPr>
          <a:xfrm>
            <a:off x="539640" y="1557360"/>
            <a:ext cx="7488360" cy="1217520"/>
            <a:chOff x="539640" y="1557360"/>
            <a:chExt cx="7488360" cy="1217520"/>
          </a:xfrm>
        </p:grpSpPr>
        <p:sp>
          <p:nvSpPr>
            <p:cNvPr id="192" name="Dowolny kształt 8"/>
            <p:cNvSpPr/>
            <p:nvPr/>
          </p:nvSpPr>
          <p:spPr>
            <a:xfrm>
              <a:off x="539640" y="1557360"/>
              <a:ext cx="7488360" cy="58104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cieczk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Dowolny kształt 9"/>
            <p:cNvSpPr/>
            <p:nvPr/>
          </p:nvSpPr>
          <p:spPr>
            <a:xfrm>
              <a:off x="539640" y="213840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łównie reakcja obronna, czekanie, aż konflikt rozwiąże się sa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upa 17"/>
          <p:cNvGrpSpPr/>
          <p:nvPr/>
        </p:nvGrpSpPr>
        <p:grpSpPr>
          <a:xfrm>
            <a:off x="539640" y="2774880"/>
            <a:ext cx="7488360" cy="1217520"/>
            <a:chOff x="539640" y="2774880"/>
            <a:chExt cx="7488360" cy="1217520"/>
          </a:xfrm>
        </p:grpSpPr>
        <p:sp>
          <p:nvSpPr>
            <p:cNvPr id="195" name="Dowolny kształt 10"/>
            <p:cNvSpPr/>
            <p:nvPr/>
          </p:nvSpPr>
          <p:spPr>
            <a:xfrm>
              <a:off x="539640" y="2774880"/>
              <a:ext cx="7488360" cy="581040"/>
            </a:xfrm>
            <a:prstGeom prst="pie">
              <a:avLst/>
            </a:prstGeom>
            <a:solidFill>
              <a:srgbClr val="5eaf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usza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Dowolny kształt 11"/>
            <p:cNvSpPr/>
            <p:nvPr/>
          </p:nvSpPr>
          <p:spPr>
            <a:xfrm>
              <a:off x="539640" y="335592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a ze stron, korzystając ze swojej siły, wymusza/narzuca określone rozwiązan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upa 18"/>
          <p:cNvGrpSpPr/>
          <p:nvPr/>
        </p:nvGrpSpPr>
        <p:grpSpPr>
          <a:xfrm>
            <a:off x="539640" y="3992400"/>
            <a:ext cx="7488360" cy="2100600"/>
            <a:chOff x="539640" y="3992400"/>
            <a:chExt cx="7488360" cy="2100600"/>
          </a:xfrm>
        </p:grpSpPr>
        <p:sp>
          <p:nvSpPr>
            <p:cNvPr id="198" name="Dowolny kształt 12"/>
            <p:cNvSpPr/>
            <p:nvPr/>
          </p:nvSpPr>
          <p:spPr>
            <a:xfrm>
              <a:off x="539640" y="3992400"/>
              <a:ext cx="7488360" cy="58104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mpromi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owolny kształt 14"/>
            <p:cNvSpPr/>
            <p:nvPr/>
          </p:nvSpPr>
          <p:spPr>
            <a:xfrm>
              <a:off x="539640" y="4573440"/>
              <a:ext cx="7488360" cy="151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ega przede wszystkim na nakłanianiu stron do wzajemnych ustępstw, czyli rezygnacji ze swoich postulatów. Jednak gdy ustępstwa takie w odczuciu uczestników są zbyt duże, to rozwiązanie problemu odsuwa się tylko w czas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1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26128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286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7"/>
          <p:cNvSpPr/>
          <p:nvPr/>
        </p:nvSpPr>
        <p:spPr>
          <a:xfrm>
            <a:off x="324000" y="333360"/>
            <a:ext cx="54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Zwycięzca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wygrała konflikt, odnosząc zwycięstwo nad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8"/>
          <p:cNvSpPr/>
          <p:nvPr/>
        </p:nvSpPr>
        <p:spPr>
          <a:xfrm>
            <a:off x="324000" y="1052640"/>
            <a:ext cx="648000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zwycięst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bez uzgodn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9"/>
          <p:cNvSpPr/>
          <p:nvPr/>
        </p:nvSpPr>
        <p:spPr>
          <a:xfrm>
            <a:off x="2195640" y="321300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rzegrany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przegrała konflikt, ponosząc porażkę ze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10"/>
          <p:cNvSpPr/>
          <p:nvPr/>
        </p:nvSpPr>
        <p:spPr>
          <a:xfrm>
            <a:off x="3059280" y="3995640"/>
            <a:ext cx="5184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przegranej (negatywne emocj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iągłe niezdecyd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legł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3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26736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12"/>
          <p:cNvGrpSpPr/>
          <p:nvPr/>
        </p:nvGrpSpPr>
        <p:grpSpPr>
          <a:xfrm>
            <a:off x="468360" y="1197000"/>
            <a:ext cx="7488360" cy="1584360"/>
            <a:chOff x="468360" y="1197000"/>
            <a:chExt cx="7488360" cy="1584360"/>
          </a:xfrm>
        </p:grpSpPr>
        <p:sp>
          <p:nvSpPr>
            <p:cNvPr id="221" name="Prostokąt zaokrąglony 7"/>
            <p:cNvSpPr/>
            <p:nvPr/>
          </p:nvSpPr>
          <p:spPr>
            <a:xfrm>
              <a:off x="468360" y="1197000"/>
              <a:ext cx="7488360" cy="158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ole tekstowe 6"/>
            <p:cNvSpPr/>
            <p:nvPr/>
          </p:nvSpPr>
          <p:spPr>
            <a:xfrm>
              <a:off x="612360" y="1269000"/>
              <a:ext cx="7272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ocj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ą dwustronnym procesem komunikowania się, którego celem jest osiągnięcie porozumienia, które w pełni satysfakcjonuje obie strony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8"/>
          <p:cNvSpPr/>
          <p:nvPr/>
        </p:nvSpPr>
        <p:spPr>
          <a:xfrm>
            <a:off x="549000" y="3068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wersalne reguły negocjacyj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9"/>
          <p:cNvSpPr/>
          <p:nvPr/>
        </p:nvSpPr>
        <p:spPr>
          <a:xfrm>
            <a:off x="629280" y="3429000"/>
            <a:ext cx="6253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dziel ludzi od problem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tal reguły postępowa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ułuj problem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ntruj się na interesach, a nie na stanowiska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eniaj pozytywy, nazywaj osiągnięcia podczas negocj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11"/>
          <p:cNvSpPr/>
          <p:nvPr/>
        </p:nvSpPr>
        <p:spPr>
          <a:xfrm>
            <a:off x="971640" y="5877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oszukuj rozwiązań korzystnych dla obu stron</a:t>
            </a:r>
            <a:br>
              <a:rPr sz="2200"/>
            </a:b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– zasada: wygrany – wygrany</a:t>
            </a:r>
            <a:r>
              <a:rPr b="1" lang="pl-PL" sz="2200" spc="-1" strike="noStrike">
                <a:solidFill>
                  <a:srgbClr val="4c216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ż problem w kilku krokach: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Dowolny kształt 11"/>
          <p:cNvSpPr/>
          <p:nvPr/>
        </p:nvSpPr>
        <p:spPr>
          <a:xfrm>
            <a:off x="2008080" y="5003640"/>
            <a:ext cx="6164280" cy="1017720"/>
          </a:xfrm>
          <a:prstGeom prst="pie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1283400" tIns="105840" bIns="1058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Podejmowanie decyzji –</a:t>
            </a: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 jeżeli podczas negocjacji obie strony wypracowały rozwiązanie, trzeba je jak najszybciej wprowadzić w ży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upa 19"/>
          <p:cNvGrpSpPr/>
          <p:nvPr/>
        </p:nvGrpSpPr>
        <p:grpSpPr>
          <a:xfrm>
            <a:off x="1492200" y="3801960"/>
            <a:ext cx="6392880" cy="1440000"/>
            <a:chOff x="1492200" y="3801960"/>
            <a:chExt cx="6392880" cy="1440000"/>
          </a:xfrm>
        </p:grpSpPr>
        <p:sp>
          <p:nvSpPr>
            <p:cNvPr id="235" name="Dowolny kształt 10"/>
            <p:cNvSpPr/>
            <p:nvPr/>
          </p:nvSpPr>
          <p:spPr>
            <a:xfrm>
              <a:off x="1492200" y="3801960"/>
              <a:ext cx="6392880" cy="1017720"/>
            </a:xfrm>
            <a:prstGeom prst="pie">
              <a:avLst/>
            </a:prstGeom>
            <a:solidFill>
              <a:srgbClr val="537a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7584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3. Analiza i weryfikacja pomysłów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zastanów się, czy któreś rozwiązanie może zostać zastosowane i przyniesie rozwiązanie dobre dla obu str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6"/>
            <p:cNvSpPr/>
            <p:nvPr/>
          </p:nvSpPr>
          <p:spPr>
            <a:xfrm>
              <a:off x="6996240" y="4581360"/>
              <a:ext cx="660240" cy="66060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8"/>
          <p:cNvGrpSpPr/>
          <p:nvPr/>
        </p:nvGrpSpPr>
        <p:grpSpPr>
          <a:xfrm>
            <a:off x="984240" y="2492280"/>
            <a:ext cx="6612120" cy="1548000"/>
            <a:chOff x="984240" y="2492280"/>
            <a:chExt cx="6612120" cy="1548000"/>
          </a:xfrm>
        </p:grpSpPr>
        <p:sp>
          <p:nvSpPr>
            <p:cNvPr id="238" name="Dowolny kształt 9"/>
            <p:cNvSpPr/>
            <p:nvPr/>
          </p:nvSpPr>
          <p:spPr>
            <a:xfrm>
              <a:off x="984240" y="2492280"/>
              <a:ext cx="6612120" cy="1225800"/>
            </a:xfrm>
            <a:prstGeom prst="pie">
              <a:avLst/>
            </a:prstGeom>
            <a:solidFill>
              <a:srgbClr val="5f5ba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8340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2. Generowanie pomysłów i rozwiązań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staraj się znaleźć rozwiązanie problemu, szukaj pomysłów. Słuchaj pomysłów drugiej strony. Pamiętaj, nie ma głupich pomysłó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6486840" y="3378240"/>
              <a:ext cx="660240" cy="6620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upa 17"/>
          <p:cNvGrpSpPr/>
          <p:nvPr/>
        </p:nvGrpSpPr>
        <p:grpSpPr>
          <a:xfrm>
            <a:off x="468360" y="1397160"/>
            <a:ext cx="6407280" cy="1468440"/>
            <a:chOff x="468360" y="1397160"/>
            <a:chExt cx="6407280" cy="1468440"/>
          </a:xfrm>
        </p:grpSpPr>
        <p:sp>
          <p:nvSpPr>
            <p:cNvPr id="241" name="Dowolny kształt 8"/>
            <p:cNvSpPr/>
            <p:nvPr/>
          </p:nvSpPr>
          <p:spPr>
            <a:xfrm>
              <a:off x="468360" y="1397160"/>
              <a:ext cx="6407280" cy="101772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3012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1. Rozpoznanie problemów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zorientuj się, czy obie strony negocjacji tak samo widzą probl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Dowolny kształt 12"/>
            <p:cNvSpPr/>
            <p:nvPr/>
          </p:nvSpPr>
          <p:spPr>
            <a:xfrm>
              <a:off x="6156720" y="2205360"/>
              <a:ext cx="660240" cy="6602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4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ole tekstowe 7"/>
          <p:cNvSpPr/>
          <p:nvPr/>
        </p:nvSpPr>
        <p:spPr>
          <a:xfrm>
            <a:off x="324000" y="333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negocjacji strony mogą przyjąć skrajne postawy negocjacyjne. Są to tak zwane negocjacje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8"/>
          <p:cNvSpPr/>
          <p:nvPr/>
        </p:nvSpPr>
        <p:spPr>
          <a:xfrm>
            <a:off x="2484360" y="162864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współpracy w przyjaznej atmosferze, skupione na pozytywnych relacj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9"/>
          <p:cNvSpPr/>
          <p:nvPr/>
        </p:nvSpPr>
        <p:spPr>
          <a:xfrm>
            <a:off x="468360" y="3716280"/>
            <a:ext cx="61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rywalizacji, nastawione na 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10"/>
          <p:cNvSpPr/>
          <p:nvPr/>
        </p:nvSpPr>
        <p:spPr>
          <a:xfrm>
            <a:off x="900000" y="558972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torzy rzadko stosują tylko twarde lub tylko miękkie sposoby negocjacji.  Aby osiągnąć sukces, należy umiejętnie łączyć oba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8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6574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 – zakończeni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ole tekstowe 6"/>
          <p:cNvSpPr/>
          <p:nvPr/>
        </p:nvSpPr>
        <p:spPr>
          <a:xfrm>
            <a:off x="611280" y="126828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ma swój wielki potencjał. Kiedy boisz się konfliktu lub traktujesz go jak wojnę, tracisz możliwość poznania drugiej strony oraz wyrażania własnych potrzeb i interesów. Tracisz szansę na satysfakcjonujące kontakty z drugim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a 11"/>
          <p:cNvGrpSpPr/>
          <p:nvPr/>
        </p:nvGrpSpPr>
        <p:grpSpPr>
          <a:xfrm>
            <a:off x="684360" y="3500280"/>
            <a:ext cx="7127640" cy="3008520"/>
            <a:chOff x="684360" y="3500280"/>
            <a:chExt cx="7127640" cy="3008520"/>
          </a:xfrm>
        </p:grpSpPr>
        <p:sp>
          <p:nvSpPr>
            <p:cNvPr id="264" name="Prostokąt zaokrąglony 8"/>
            <p:cNvSpPr/>
            <p:nvPr/>
          </p:nvSpPr>
          <p:spPr>
            <a:xfrm>
              <a:off x="684360" y="3500280"/>
              <a:ext cx="7127640" cy="13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pole tekstowe 7"/>
            <p:cNvSpPr/>
            <p:nvPr/>
          </p:nvSpPr>
          <p:spPr>
            <a:xfrm>
              <a:off x="828360" y="3644280"/>
              <a:ext cx="683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nie konflikt jest źródłem nieporozumień i walki między ludźmi, lecz sposób jego rozstrzyg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3060000" y="4796640"/>
              <a:ext cx="2554200" cy="171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stęp do rozwiązywania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ole tekstowe 9"/>
          <p:cNvSpPr/>
          <p:nvPr/>
        </p:nvSpPr>
        <p:spPr>
          <a:xfrm>
            <a:off x="468360" y="12682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jest naturalnym elementem kontaktów międzyludzkich, dlatego sam w sobie nie powinien być oceniany zawsze  negatyw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10"/>
          <p:cNvSpPr/>
          <p:nvPr/>
        </p:nvSpPr>
        <p:spPr>
          <a:xfrm>
            <a:off x="2700360" y="2492280"/>
            <a:ext cx="55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sami konflikt może mieć bardzo pozytywny skutek. Może mieć też konstruktywny charakter, ponieważ pobudza do twórczego myśl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11"/>
          <p:cNvSpPr/>
          <p:nvPr/>
        </p:nvSpPr>
        <p:spPr>
          <a:xfrm>
            <a:off x="395280" y="3716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e i racjonalne podejście do konfliktu może doprowadzić do zbliżenia stanowisk i uzyskania satysfakcji płynącej ze współ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39211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ytuł 1"/>
          <p:cNvSpPr/>
          <p:nvPr/>
        </p:nvSpPr>
        <p:spPr>
          <a:xfrm>
            <a:off x="32400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755640" y="1413000"/>
            <a:ext cx="6696000" cy="485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co grają ludzie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ric B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Umiejętności negocjacyj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Michał Dec, Małgorzata Pietrusi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enić konflikt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rzy Gut, Wojciech Ha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zgody. Przekształcanie konfliktów w domu, w pracy i na świec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 . Urly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TAK. Negocjowanie bez poddawania si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Roger Fisher, William L. Ury, Bruce Pa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dchodząc od NIE. Negocjowanie od konfrontacji do kooper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. 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onflikt niejedno ma imię (1). Jak reagować  w przypadku nieporozumień w firm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esław Gonciarski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ztuka negocj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Gerard Nieren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3" name="pole tekstowe 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Obraz 10" descr="sowa_1-komunikowanie sie.png"/>
            <p:cNvPicPr/>
            <p:nvPr/>
          </p:nvPicPr>
          <p:blipFill>
            <a:blip r:embed="rId1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definiować konflikt, należy powiedzieć, że:</a:t>
            </a:r>
            <a:endParaRPr b="0" lang="en-US" sz="27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upa 18"/>
          <p:cNvGrpSpPr/>
          <p:nvPr/>
        </p:nvGrpSpPr>
        <p:grpSpPr>
          <a:xfrm>
            <a:off x="1332000" y="1413000"/>
            <a:ext cx="5616360" cy="2520720"/>
            <a:chOff x="1332000" y="1413000"/>
            <a:chExt cx="5616360" cy="2520720"/>
          </a:xfrm>
        </p:grpSpPr>
        <p:sp>
          <p:nvSpPr>
            <p:cNvPr id="71" name="Prostokąt zaokrąglony 14"/>
            <p:cNvSpPr/>
            <p:nvPr/>
          </p:nvSpPr>
          <p:spPr>
            <a:xfrm>
              <a:off x="1332000" y="1413000"/>
              <a:ext cx="561636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ole tekstowe 12"/>
            <p:cNvSpPr/>
            <p:nvPr/>
          </p:nvSpPr>
          <p:spPr>
            <a:xfrm>
              <a:off x="1548000" y="1413000"/>
              <a:ext cx="51843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to spór dwóch lub więcej osó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tóremu towarzyszy napięc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mocje, niezgoda i różnica stanowis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wyniku czego wzajemne relacje st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legają popsuciu lub przerwaniu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upa 19"/>
          <p:cNvGrpSpPr/>
          <p:nvPr/>
        </p:nvGrpSpPr>
        <p:grpSpPr>
          <a:xfrm>
            <a:off x="971640" y="4437000"/>
            <a:ext cx="6480000" cy="1368360"/>
            <a:chOff x="971640" y="4437000"/>
            <a:chExt cx="6480000" cy="1368360"/>
          </a:xfrm>
        </p:grpSpPr>
        <p:sp>
          <p:nvSpPr>
            <p:cNvPr id="74" name="Prostokąt zaokrąglony 17"/>
            <p:cNvSpPr/>
            <p:nvPr/>
          </p:nvSpPr>
          <p:spPr>
            <a:xfrm>
              <a:off x="971640" y="4437000"/>
              <a:ext cx="6480000" cy="136836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ole tekstowe 16"/>
            <p:cNvSpPr/>
            <p:nvPr/>
          </p:nvSpPr>
          <p:spPr>
            <a:xfrm>
              <a:off x="1043640" y="4581000"/>
              <a:ext cx="62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nflikt jest kolizją lub niezgodą, sporem lub kłótnią, bitwą lub walką. Często określa się go jako sprzeczność dążeń, niezgodność interesów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doszło do konfliktu, muszą zaistnieć 3 warunk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16"/>
          <p:cNvGrpSpPr/>
          <p:nvPr/>
        </p:nvGrpSpPr>
        <p:grpSpPr>
          <a:xfrm>
            <a:off x="684360" y="1413000"/>
            <a:ext cx="6912000" cy="1190520"/>
            <a:chOff x="684360" y="1413000"/>
            <a:chExt cx="6912000" cy="1190520"/>
          </a:xfrm>
        </p:grpSpPr>
        <p:sp>
          <p:nvSpPr>
            <p:cNvPr id="84" name="Dowolny kształt 8"/>
            <p:cNvSpPr/>
            <p:nvPr/>
          </p:nvSpPr>
          <p:spPr>
            <a:xfrm>
              <a:off x="1911240" y="141300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ą wyodrębnione strony konfliktu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 sprecyzowanych dążeniach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9"/>
            <p:cNvSpPr/>
            <p:nvPr/>
          </p:nvSpPr>
          <p:spPr>
            <a:xfrm>
              <a:off x="684360" y="1413000"/>
              <a:ext cx="1822320" cy="119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7"/>
          <p:cNvGrpSpPr/>
          <p:nvPr/>
        </p:nvGrpSpPr>
        <p:grpSpPr>
          <a:xfrm>
            <a:off x="684360" y="2957400"/>
            <a:ext cx="6912000" cy="1190880"/>
            <a:chOff x="684360" y="2957400"/>
            <a:chExt cx="6912000" cy="1190880"/>
          </a:xfrm>
        </p:grpSpPr>
        <p:sp>
          <p:nvSpPr>
            <p:cNvPr id="87" name="Dowolny kształt 10"/>
            <p:cNvSpPr/>
            <p:nvPr/>
          </p:nvSpPr>
          <p:spPr>
            <a:xfrm>
              <a:off x="1911240" y="2957400"/>
              <a:ext cx="5685120" cy="119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e współzależność społeczna między stronam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1"/>
            <p:cNvSpPr/>
            <p:nvPr/>
          </p:nvSpPr>
          <p:spPr>
            <a:xfrm>
              <a:off x="684360" y="2957400"/>
              <a:ext cx="1822320" cy="119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8"/>
          <p:cNvGrpSpPr/>
          <p:nvPr/>
        </p:nvGrpSpPr>
        <p:grpSpPr>
          <a:xfrm>
            <a:off x="684360" y="4502160"/>
            <a:ext cx="6912000" cy="1190520"/>
            <a:chOff x="684360" y="4502160"/>
            <a:chExt cx="6912000" cy="1190520"/>
          </a:xfrm>
        </p:grpSpPr>
        <p:sp>
          <p:nvSpPr>
            <p:cNvPr id="90" name="Dowolny kształt 12"/>
            <p:cNvSpPr/>
            <p:nvPr/>
          </p:nvSpPr>
          <p:spPr>
            <a:xfrm>
              <a:off x="1911240" y="450216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trony nie pomagają sobie w osiągnięciu celów, stanowią przeszkodę lub blokują realizację dąże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4"/>
            <p:cNvSpPr/>
            <p:nvPr/>
          </p:nvSpPr>
          <p:spPr>
            <a:xfrm>
              <a:off x="684360" y="4502160"/>
              <a:ext cx="1822320" cy="1190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y mogą zachodzić na różnych poziomach </a:t>
            </a:r>
            <a:br>
              <a:rPr sz="2600"/>
            </a:b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a społecznego:</a:t>
            </a:r>
            <a:endParaRPr b="0" lang="en-US" sz="2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upa 17"/>
          <p:cNvGrpSpPr/>
          <p:nvPr/>
        </p:nvGrpSpPr>
        <p:grpSpPr>
          <a:xfrm>
            <a:off x="901800" y="1700280"/>
            <a:ext cx="2136600" cy="3992400"/>
            <a:chOff x="901800" y="1700280"/>
            <a:chExt cx="2136600" cy="3992400"/>
          </a:xfrm>
        </p:grpSpPr>
        <p:sp>
          <p:nvSpPr>
            <p:cNvPr id="100" name="Prostokąt zaokrąglony 9"/>
            <p:cNvSpPr/>
            <p:nvPr/>
          </p:nvSpPr>
          <p:spPr>
            <a:xfrm>
              <a:off x="901800" y="1700280"/>
              <a:ext cx="213660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olny kształt 10"/>
            <p:cNvSpPr/>
            <p:nvPr/>
          </p:nvSpPr>
          <p:spPr>
            <a:xfrm>
              <a:off x="901800" y="3213000"/>
              <a:ext cx="213660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jednostk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upa 18"/>
          <p:cNvGrpSpPr/>
          <p:nvPr/>
        </p:nvGrpSpPr>
        <p:grpSpPr>
          <a:xfrm>
            <a:off x="3251160" y="1700280"/>
            <a:ext cx="2136960" cy="3992400"/>
            <a:chOff x="3251160" y="1700280"/>
            <a:chExt cx="2136960" cy="3992400"/>
          </a:xfrm>
        </p:grpSpPr>
        <p:sp>
          <p:nvSpPr>
            <p:cNvPr id="103" name="Prostokąt zaokrąglony 11"/>
            <p:cNvSpPr/>
            <p:nvPr/>
          </p:nvSpPr>
          <p:spPr>
            <a:xfrm>
              <a:off x="3251160" y="1700280"/>
              <a:ext cx="21369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olny kształt 12"/>
            <p:cNvSpPr/>
            <p:nvPr/>
          </p:nvSpPr>
          <p:spPr>
            <a:xfrm>
              <a:off x="3251160" y="3213000"/>
              <a:ext cx="21369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grupy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upa 19"/>
          <p:cNvGrpSpPr/>
          <p:nvPr/>
        </p:nvGrpSpPr>
        <p:grpSpPr>
          <a:xfrm>
            <a:off x="5602320" y="1700280"/>
            <a:ext cx="2135160" cy="3992400"/>
            <a:chOff x="5602320" y="1700280"/>
            <a:chExt cx="2135160" cy="3992400"/>
          </a:xfrm>
        </p:grpSpPr>
        <p:sp>
          <p:nvSpPr>
            <p:cNvPr id="106" name="Prostokąt zaokrąglony 14"/>
            <p:cNvSpPr/>
            <p:nvPr/>
          </p:nvSpPr>
          <p:spPr>
            <a:xfrm>
              <a:off x="5602320" y="1700280"/>
              <a:ext cx="21351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Dowolny kształt 16"/>
            <p:cNvSpPr/>
            <p:nvPr/>
          </p:nvSpPr>
          <p:spPr>
            <a:xfrm>
              <a:off x="5602320" y="3213000"/>
              <a:ext cx="21351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9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772160" cy="461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czyny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ole tekstowe 6"/>
          <p:cNvSpPr/>
          <p:nvPr/>
        </p:nvSpPr>
        <p:spPr>
          <a:xfrm>
            <a:off x="468360" y="1413000"/>
            <a:ext cx="75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interesów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jczęściej dochodzi do niego, gdy jedna strona chce osiągnąć jakiś cel kosztem drugiej str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7"/>
          <p:cNvSpPr/>
          <p:nvPr/>
        </p:nvSpPr>
        <p:spPr>
          <a:xfrm>
            <a:off x="468360" y="2708280"/>
            <a:ext cx="77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rzeczow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rze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468360" y="3645000"/>
            <a:ext cx="763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rocedural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procedury, zwyczaju lub powszechnie przyjętego sposobu postęp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9"/>
          <p:cNvSpPr/>
          <p:nvPr/>
        </p:nvSpPr>
        <p:spPr>
          <a:xfrm>
            <a:off x="468360" y="465300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sychologicz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, ponieważ jedna grupa lub jednostka odczuwa, że jest traktowana niesprawiedli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1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ole tekstowe 7"/>
          <p:cNvSpPr/>
          <p:nvPr/>
        </p:nvSpPr>
        <p:spPr>
          <a:xfrm>
            <a:off x="324000" y="476280"/>
            <a:ext cx="79200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relacj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relacje jednostki kolidują z relacjami innej jednostki lub gru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8"/>
          <p:cNvSpPr/>
          <p:nvPr/>
        </p:nvSpPr>
        <p:spPr>
          <a:xfrm>
            <a:off x="468360" y="2276640"/>
            <a:ext cx="453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postrzeg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a komunikac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ilne emoc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ereoty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362120" cy="2504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21000" cy="40323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8"/>
          <p:cNvSpPr/>
          <p:nvPr/>
        </p:nvSpPr>
        <p:spPr>
          <a:xfrm>
            <a:off x="3635280" y="2924280"/>
            <a:ext cx="449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inform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lub różne rozumienie da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sposoby zbierania da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7"/>
          <p:cNvSpPr/>
          <p:nvPr/>
        </p:nvSpPr>
        <p:spPr>
          <a:xfrm>
            <a:off x="468360" y="404640"/>
            <a:ext cx="7559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danych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 informacje i na ich podstawie podejmują decyzje na temat podejmowa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9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ole tekstowe 7"/>
          <p:cNvSpPr/>
          <p:nvPr/>
        </p:nvSpPr>
        <p:spPr>
          <a:xfrm>
            <a:off x="468360" y="549360"/>
            <a:ext cx="770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wartośc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często przeciwstawne wartości, przekonania, zwyczaje, kulturę lub środowisko, z którego się wywodz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8"/>
          <p:cNvSpPr/>
          <p:nvPr/>
        </p:nvSpPr>
        <p:spPr>
          <a:xfrm>
            <a:off x="627480" y="2924280"/>
            <a:ext cx="521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religij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związane z zachowaniem własnego 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dnia codzien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872000" cy="43862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8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57:06Z</dcterms:created>
  <dc:creator>x</dc:creator>
  <dc:description/>
  <dc:language>en-US</dc:language>
  <cp:lastModifiedBy>Marta</cp:lastModifiedBy>
  <dcterms:modified xsi:type="dcterms:W3CDTF">2013-01-31T14:46:34Z</dcterms:modified>
  <cp:revision>43</cp:revision>
  <dc:subject/>
  <dc:title>Slajd 1</dc:title>
</cp:coreProperties>
</file>